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880B-ABAD-464C-A5F2-FE6F4B87A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CB0C-15A7-467D-A99C-794F658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01BF16-1066-4D6A-B87D-FCB9F60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BE56FD-E8B6-44A1-AA46-4775BFC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B6E32-7A67-4254-A952-95823359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FB31C-1101-4FA2-BF14-BEF7F45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24374-366A-40E5-BA04-F777F91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1DDFE-51A2-4B84-98FC-7ABD89C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326C90-DCCF-47E0-8158-62B6718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F973F-3FC5-4181-88AF-04BB708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1EBF9A-5D3E-4EE3-A27E-D2D6024DE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F621-D63F-4CC5-899F-2D1487122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034F-8F2D-4CCC-8C92-0863E69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926C2-E0E6-45FA-907C-9E6DF20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E562-A2A2-45AE-8B6D-F7A8D73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32181-E357-4779-BA74-BD33BC2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789D-B5F7-4F5F-80EC-A1E2EBE6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B55B-820C-49CF-8971-9C39E554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321B-7AF0-4C1B-AF32-88745436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468B-4C62-41DB-A614-6D61CE8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C683-6502-4A94-B495-D060F8AF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9D54-DB7A-4581-867C-4E62F52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1001-20CB-45F1-BF24-D9FA143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32E2-6583-4FB7-A7B1-0C8450FEB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3E68-80BB-4636-9A10-6A28B07C2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8A17B-9A40-4BFF-877E-7537BA3BC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F9EB2-CF22-4ACE-87C5-3096B4DD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7E0C3-0030-44FA-8573-CE7DE24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B6547-F837-474D-B49C-456D18E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0CFE7-9B5B-49F2-9A47-19C7B1C2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BA2FDB-47EC-4A99-A17B-B3DB567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73953-D31D-4D8F-BE67-C3BBEF3D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B8F64C-0419-48AA-905F-2229BD9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17EEA8-7D90-4D69-9821-3600DA74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A241-75C5-4FA7-8C7F-A25C5C93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59C32-99C1-472F-9E1F-4E5F11C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AFDC9B-5640-45C7-9C67-037926C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16C45-0957-44AD-854A-2D48E3914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30E31-A469-44A8-BFD7-5EC5574B7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9DD07-894F-4068-B9D6-8A2CEFB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91F7A-8AD0-4BFC-94B8-E86DBA1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5B163-54E9-449E-A9E3-EE04E83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9368C-7ECC-415E-BFA4-1A510F88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6B52E-D18C-4759-882F-9E2FEC7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1F5E3-CC9C-4ACC-818C-FBD38B73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04CC8-7339-437D-9FA1-D62BD3B0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9B660-79E2-471B-A4C4-3446FD6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64C10-D8FD-40C8-8D71-5916F67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C7948-E05C-4C7E-B182-B95516F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F3E78-D0CE-451E-B497-D1A409B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349E5-2CDB-4869-8897-AF6CE4184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27E71-5396-47FC-BFF8-C850039EB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9EB0B-53DA-49F9-97EB-4DD103E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168B5-411A-43BB-B942-DF89A2C2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C1C4-C485-46DA-B611-3A01FEB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AF6CB-B639-449D-8569-055AC9E1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3F904-47E7-48BF-A50E-73367E6C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AE409-AF36-4D9B-BDC2-89A85D47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C1D85-CF2B-44D8-A317-5B23ACB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8D89C-C957-4566-822A-73FE5FB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10F91-A26F-4586-9D32-2328BC8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69C1-C5FA-48CA-8CC0-4899122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DA486-5DD9-43D1-8DB4-BD674CF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3CA3-2B20-4BD8-8389-0075045B1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33014-2602-48D7-9D7A-06E3D5B4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E29E-97C4-4B77-99DC-2B66A00D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BDC8-3ECE-489F-8AF7-DCB55FD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D0C01-9865-43D4-8BB8-9C1FE01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756F5-F11E-4F08-B9AC-93240F9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C7E3B-4141-40A7-995E-320699DB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4D26-5779-49BD-97AE-F1A1436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5158-E5C3-49F9-A8C1-75038D6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913A-445A-44A6-B431-43F976E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EB4F3-CDB1-4D28-8FEA-3D7DA82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2A2F6-7F2F-4418-84C9-5DD2374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C1AB6-91A4-41C0-8344-2D2C05FB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9E25E-FC1F-4B33-9696-A29EF9DE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B3E8D-10F8-45B1-8407-86C786E7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0375A-EE73-43FE-8696-46B3C6E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7C3B-5FE5-424B-A6F5-545CEC9E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9852D-5C15-4B78-9520-D77F04D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7950A-52F7-4151-8734-4A845E1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E8A33-77B7-40D4-BAC9-070DBC7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9681-9D66-4EE8-83FC-080FB8C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707B0-0911-44AB-9D82-18834A4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0F42-4DCA-4956-A0EB-802369F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2B82E-9C5A-4037-8CD7-A4E30C0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170AB-1DBE-4EF2-8AB1-B08797F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F28DC-0A19-4781-8928-36C54D4B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699A6-5146-4686-AFB5-89E76BA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2A29B-ABC7-4451-8DB5-41B96472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29452-4EA6-4441-8AB1-08BB7BDF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6FC80-9809-4142-9A4F-0F4EC47C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5F71A-E0E8-4822-87D5-DF2B0C2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4D708-FCBF-4602-B1BC-DC2199F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F25E7-E5DC-47FD-BCE5-5A0C2C0F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0CA1A-6DA4-4586-B6A6-062D63F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57F3A-ACFF-4DBE-B6CE-3B5954E5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27046-CC74-410F-ADCA-1E97EFB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45725-9333-45A1-93A3-5CE3BBE2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58EB8-A16D-4892-B16B-1D10FBE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4D31-ED0C-43F3-BF93-4841171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14689-D714-4130-ACD9-1704157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7208B-034E-4ED4-AAAC-1DD1357B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A2B9E-213F-45A4-9F14-B54E587B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82689-A380-4F8A-B382-3FBAD81B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7766A-8B13-4F3D-9A7E-A208875A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E283D-1C08-4989-85A9-75325F8B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13462-3F8A-4CDA-B836-804ED71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626DB-A1D8-4F3B-973D-FE0036E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0DF43-C427-43F8-A38F-389741F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1F33-1E09-4E7E-9335-B9E6C13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843E8-67F1-46F6-83BC-6105535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62625-21AE-4863-ADC2-43FD772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EFEE6-272A-42E4-9E01-3E0D2F0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05029-B1E5-48C1-BE4E-BC6EE8F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D1E16-A499-47B2-A7B0-62964CAD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56EED-59FC-4604-8180-BE9E6427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FBE63-828B-4685-861E-3FB19644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71F09-A184-4737-BF1A-204D1DCE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365C2-C2F4-4F31-99C0-EFBB905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F79AC-1D26-454B-BCCE-AB8E423B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ECD6A-F866-429C-8DFD-210094C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0FBE3-1386-4F1B-BA2B-CDA1DE9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3EC36-621B-48EC-8E5C-0456926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5CBE2-3932-498D-AE14-6DCCC14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7C8BE-EB79-44FC-8900-EAF239B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D2C06-B1D7-4C55-8D71-F3AD6FC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B519C-D188-4942-A2B0-B5071733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E55F9-2892-4692-8CB3-06E3029A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64671-2302-4B14-BCED-97263ECC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85A0C-8791-4757-9194-577035BA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BAB53-A17D-481C-A87D-B714BC8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986DB-CFDA-4B12-B79E-ECA6370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426EA-516D-4288-BF53-933521A3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C406C-24FC-42DF-828D-3080482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07AF9-6088-4F84-9ED3-37A86958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B998D-69CB-41E2-92ED-F596627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3419B-93D8-42DE-A868-CB2E9678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08B84-68B3-4671-8EF9-3D3CED4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78061-8266-4165-8E3C-1F827B9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DF3C0-B443-4ECE-A179-1262DEBB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EC66E-38AD-48F9-B66C-675B3D7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663F5-F157-406D-ABB8-E4F6317C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83F21-325A-48AC-9286-511FAD3B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CCF7-95CA-42F1-9B47-50D4FA21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DF0AB-4AD0-40EF-A8F8-DF9DC57B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0BE53-49B8-4252-A6A3-ED97343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ACF6B-FB50-4AA3-8F8E-A566357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B1399-C385-4745-AB6C-6AB9741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6D197-32AF-47A8-9F2B-63903A2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7CAF3-0DC5-413F-B273-AE6F76A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A5158-8509-43AA-973B-E9C6AAD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AA75B-920B-45B2-A4D7-FD84678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872EF-4A17-4B9C-BD4C-9E44E8E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17C79-1AF4-45F5-882B-081A8D39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0A03-99EB-4DE0-B9C8-88D54E3D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91526-99DD-417C-B64D-449C36F7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A2F6A-5817-4B4E-B56F-A9AAC6E0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253EE-5618-40CD-A118-8918CC44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AF37C-619F-4FBB-8E8F-028B764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30E75-61DE-4362-BEE5-76C13298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7B749-D8B0-4263-A60B-2BA3247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FB7B4-B0F7-4EE8-B3F5-ED630F1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68A3F-2120-4F2E-90FB-648FEBA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2712D-98F9-4788-8367-EFDA347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873D4-D17A-444B-91B7-675CE69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3411C-12E4-4DD6-B99D-2359D88E0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6D650-A180-45D6-BFC7-696281A3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AFBB2-CC78-470B-9B59-60BE135F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E278C-C698-4F95-B2FC-D13734DD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9B650-3E7B-45E4-83CF-6CE3E398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82F84-D232-432C-A9E7-F2AC1DF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55998-2F48-4F51-B946-81259C0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2E111-CDA6-41DE-A645-23C9E67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30D5D-702A-467F-89BE-CBBA3E3B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4FA0B-5BE4-45BC-8B08-65C15DF9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CFDEA-DDAD-4704-ADDD-916B64E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A1EDE-7D24-4E90-BDF5-F6723C48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FEDBA-34E8-4C94-912E-67275ED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D6661-F3AC-41BA-9B68-116FFAF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F02FE-A824-4205-B419-EBF672F9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D5A5D-A680-4151-B006-A67FB80D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C7710-B532-459A-86C8-79D93D16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C9911-2417-4C31-B672-2E01EC47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EF7B2-CA71-428B-A64D-4E447DE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E0151-FEB6-431A-9EB3-36DEF9A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0B1AA-14B7-4732-80CD-23F0B24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09736-C02C-4F46-A19B-43E97E49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AD8FB-921B-4292-B32A-D8BCE85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EDAB1-2A8C-4318-93B3-5084865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C0FAE-00E4-40A1-82C1-4AFAFC3F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7B406-5133-4E47-B2BD-7B4B027E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F3954-C8B3-4D5B-8640-24C710C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0E117-CF3F-440F-AA3E-2E8D06A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9548E-E8A1-4C31-960D-464D8C5A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109FE-27E2-4C31-B988-9C5B738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0778A-A5F7-4C78-A514-B6B1A23B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3B030-1EB4-4888-B5A9-67AA2E0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14076-B1F1-49C0-A318-1EDA082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62FDE-95E7-4D27-8658-21B23247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4D093-7E86-45AF-83F6-75E24D9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51ED5-6998-4CD2-B94B-E67517F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433ED-AA5D-4862-A72C-F7DD06ED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42514-6AA0-4FF6-9613-EFC81727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5C85E-31D1-4EB9-A95F-45EEA88B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2313C-D0DC-4419-A0CB-0C81BD8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20AC4-7058-4145-91CD-1365E89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E7EFA-C777-43A6-B6D2-F28DC0E7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8B2A9-56D3-4F3D-BAD3-21CB5614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4C985-800C-4BB2-B3BE-F7D59535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37ED-2B51-42AE-849A-F4BBAF55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45AD7-FD87-4CFA-A73F-1EE30177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D20907-2676-4385-85DF-3935A14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BE1AE-4A0F-4261-914F-68931CB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59624-CEFD-4E17-A3C7-0C5BBD79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45BB4-C732-4FF5-B041-D97883B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6E76C-32A7-41D4-9E07-B4A301A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21DB4-AC89-4966-A803-DA76FB023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C226-0E68-4367-937F-95ADE5707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ECE4-B154-4AA4-A679-D0A1BFB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CB3A-7032-49C9-9E9E-74C93E69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B88E-99BE-4CF4-BC8F-A02A3460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F68F-10CC-4CFE-9536-C56FD55E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8A1E-B393-4899-AF6B-72879EE3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20D3-D4A3-4BC3-9247-CBC85014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D680-4A00-4457-81D4-7F159D60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6737-3401-442C-9E01-206BA097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29CF-3BAD-4739-928E-A0AF165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0E16-F62D-45BD-9096-7B3C5F5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C062-49EA-4E7F-A2C9-E7572CAA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F428-9117-4106-84DD-411D11C06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A0C6E-895A-49E1-AF80-0D0C922DC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996B-373D-4D38-A2F5-C14EC759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98632-00EA-43FF-B6DB-5F62E16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A9344-14CA-461B-A85A-64B0D96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B1173-5FE2-4888-9B6B-6685639D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1C31F-8646-4DB3-88F0-CC60BD7C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65B5A-E913-4D42-991C-C3E7D165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1787B-1A3F-4D08-830C-BFBCEBC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57674-5536-462B-9EE9-49143EF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C6534-036B-4641-87A3-B06260C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DD28E-2E0F-4DF2-A005-64E3B49E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314B7-F313-434F-8DD6-E83C643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1A32-CC8A-4EB4-A512-C4D46D94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F7277-CE2B-4B85-BD58-ECF00E0930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CA720-5D32-4BF5-B05D-7857F003A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9613D-F1B5-4F58-9650-6733931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102A7-DB6A-45AA-882B-AE35722D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EAB99-2995-4261-BDFA-9C9B49C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9B5BF-2EBD-4704-84B4-DB69F2BA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6B176-55E9-434F-BB64-D77D73A2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756C9B-2633-4DEB-90C3-1A94835B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6DE87-CC68-411A-A29D-CF33C98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57C2F-51AF-4BFD-BD4E-03E690CE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9B27-E215-4513-8E8B-0060EFD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69B5B-A41F-4EA0-9C2E-B8E7037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13875-19C8-4443-A3B1-29CFFA9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52A8C-729B-474C-BB67-8C69B6182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C2DD-8F2F-4C35-A92D-32B68F4F9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AC18-227A-4647-9746-7116D11D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97C45-40C3-41D0-AFBF-A15D8E37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59CA-4542-4A27-97CC-0C3970D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81E0D-D08C-4436-B4ED-90759B62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A0BAF-4EB1-4074-B26D-F581FBF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162A-201D-4BD9-93E9-77EF54C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3C05-9CC6-401D-BE9F-E441E148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C35D-FED8-4A62-B54D-FB935F6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2703-2DA3-48C4-A071-8A5FBF4C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8C80-486A-4768-92B3-FC77D28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68BC-11AD-44BF-AC84-3AFE0C3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9602-F874-4272-A93D-719DD0125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9892D-FDF6-4E0E-90A3-E5E5DF3BF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B10ED-C6A0-42AE-85ED-73C024C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13BD4-8364-42DD-841E-3A0EF65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E1813-DBC2-4AC5-AC0E-768375E4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EA000-E166-46D2-8E14-98BD964C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F404-8402-4DAF-8AD5-B0FE9CB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17448-F60D-4F9E-8682-355E9095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A0C09-F8F5-4580-886D-9984C3AE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F4BCB-7CC3-4C0E-89AD-9ED9180B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FDB2A-70B2-4424-A6FA-D0DE4C8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F0635-6026-43CA-9499-68D25D3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18D61-7B8D-41C7-A705-7709BDC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BC70A-E5E7-4F9E-B79E-31FABD9F6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B04E75-0654-4CE5-8D99-B5A914C59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3D971-DB12-4DE0-ACA5-D8E4179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46369-6CA2-407D-AF68-07EF5F18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32D-6255-4073-AC42-6DBDB542AF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C77-0948-42CD-88BB-7335CAD91B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3BD-D62B-45BE-A4F9-99BB5344E4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2ED-E0E7-4853-BD5B-C25D7174F50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4F31-3975-412F-AF6B-B0C8F120B0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FB47-ABB3-4FD5-9016-D2B21E6E6A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BA7-0CFD-4331-AC4A-204DF77D91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450-DC40-4CEA-85E1-6F4AF4DB20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ACF5-C03C-4798-B28F-AAC518EB5A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4E66-C17E-4CBA-8C72-8ED869330C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208-2430-4B6C-9A90-0CC7DD2713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F35-EEBC-4E78-8277-B1D7DEC3BFD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0F1-AFE0-4C28-A7DF-4CF2179530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EF7F-19BE-4C70-BA6C-161241DDF9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761-E1AA-40D2-BD10-44F2FF9B543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A8F-6C05-41DC-95CD-068F3B4A0DB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37B-57F2-4DB5-A352-71BCA766CB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101-916E-425A-8D66-85823A48E6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93FE-3106-4E53-AA93-FF9631E439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4903-023F-4498-BAE6-54EFAC697E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A4A-2FC4-4969-B590-41A2EF37DD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2FB-7858-42BF-8EDE-FD4708E49E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BFCA-8D28-4DCB-AD8B-678FEAB602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DE7-2F0B-4938-90D0-2F2B0CA579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3"/>
          <p:cNvSpPr/>
          <p:nvPr/>
        </p:nvSpPr>
        <p:spPr>
          <a:xfrm>
            <a:off x="414360" y="81612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49"/>
          <p:cNvGrpSpPr/>
          <p:nvPr/>
        </p:nvGrpSpPr>
        <p:grpSpPr>
          <a:xfrm>
            <a:off x="576360" y="1346040"/>
            <a:ext cx="8156520" cy="2596680"/>
            <a:chOff x="576360" y="1346040"/>
            <a:chExt cx="8156520" cy="2596680"/>
          </a:xfrm>
        </p:grpSpPr>
        <p:sp>
          <p:nvSpPr>
            <p:cNvPr id="1000" name="文本框 6"/>
            <p:cNvSpPr/>
            <p:nvPr/>
          </p:nvSpPr>
          <p:spPr>
            <a:xfrm>
              <a:off x="576360" y="13460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+2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文本框 7"/>
            <p:cNvSpPr/>
            <p:nvPr/>
          </p:nvSpPr>
          <p:spPr>
            <a:xfrm>
              <a:off x="2664360" y="13464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+5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文本框 8"/>
            <p:cNvSpPr/>
            <p:nvPr/>
          </p:nvSpPr>
          <p:spPr>
            <a:xfrm>
              <a:off x="4753080" y="134712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8+2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文本框 9"/>
            <p:cNvSpPr/>
            <p:nvPr/>
          </p:nvSpPr>
          <p:spPr>
            <a:xfrm>
              <a:off x="6841440" y="13478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+3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10"/>
            <p:cNvSpPr/>
            <p:nvPr/>
          </p:nvSpPr>
          <p:spPr>
            <a:xfrm>
              <a:off x="576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2+2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2"/>
            <p:cNvSpPr/>
            <p:nvPr/>
          </p:nvSpPr>
          <p:spPr>
            <a:xfrm>
              <a:off x="2664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+25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14"/>
            <p:cNvSpPr/>
            <p:nvPr/>
          </p:nvSpPr>
          <p:spPr>
            <a:xfrm>
              <a:off x="475308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6+2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15"/>
            <p:cNvSpPr/>
            <p:nvPr/>
          </p:nvSpPr>
          <p:spPr>
            <a:xfrm>
              <a:off x="684144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+2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组合 18"/>
          <p:cNvGrpSpPr/>
          <p:nvPr/>
        </p:nvGrpSpPr>
        <p:grpSpPr>
          <a:xfrm>
            <a:off x="620640" y="1835280"/>
            <a:ext cx="919080" cy="1191240"/>
            <a:chOff x="620640" y="1835280"/>
            <a:chExt cx="919080" cy="1191240"/>
          </a:xfrm>
        </p:grpSpPr>
        <p:sp>
          <p:nvSpPr>
            <p:cNvPr id="1009" name="文本框 16"/>
            <p:cNvSpPr/>
            <p:nvPr/>
          </p:nvSpPr>
          <p:spPr>
            <a:xfrm>
              <a:off x="62064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17"/>
            <p:cNvSpPr/>
            <p:nvPr/>
          </p:nvSpPr>
          <p:spPr>
            <a:xfrm>
              <a:off x="70056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19"/>
          <p:cNvGrpSpPr/>
          <p:nvPr/>
        </p:nvGrpSpPr>
        <p:grpSpPr>
          <a:xfrm>
            <a:off x="2735280" y="1835280"/>
            <a:ext cx="919080" cy="1191240"/>
            <a:chOff x="2735280" y="1835280"/>
            <a:chExt cx="919080" cy="1191240"/>
          </a:xfrm>
        </p:grpSpPr>
        <p:sp>
          <p:nvSpPr>
            <p:cNvPr id="1012" name="文本框 20"/>
            <p:cNvSpPr/>
            <p:nvPr/>
          </p:nvSpPr>
          <p:spPr>
            <a:xfrm>
              <a:off x="273528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5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21"/>
            <p:cNvSpPr/>
            <p:nvPr/>
          </p:nvSpPr>
          <p:spPr>
            <a:xfrm>
              <a:off x="281520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22"/>
          <p:cNvGrpSpPr/>
          <p:nvPr/>
        </p:nvGrpSpPr>
        <p:grpSpPr>
          <a:xfrm>
            <a:off x="4848120" y="1835280"/>
            <a:ext cx="919440" cy="1191240"/>
            <a:chOff x="4848120" y="1835280"/>
            <a:chExt cx="919440" cy="1191240"/>
          </a:xfrm>
        </p:grpSpPr>
        <p:sp>
          <p:nvSpPr>
            <p:cNvPr id="1015" name="文本框 23"/>
            <p:cNvSpPr/>
            <p:nvPr/>
          </p:nvSpPr>
          <p:spPr>
            <a:xfrm>
              <a:off x="4848120" y="183528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24"/>
            <p:cNvSpPr/>
            <p:nvPr/>
          </p:nvSpPr>
          <p:spPr>
            <a:xfrm>
              <a:off x="492804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25"/>
          <p:cNvGrpSpPr/>
          <p:nvPr/>
        </p:nvGrpSpPr>
        <p:grpSpPr>
          <a:xfrm>
            <a:off x="6962760" y="1835280"/>
            <a:ext cx="919080" cy="1191240"/>
            <a:chOff x="6962760" y="1835280"/>
            <a:chExt cx="919080" cy="1191240"/>
          </a:xfrm>
        </p:grpSpPr>
        <p:sp>
          <p:nvSpPr>
            <p:cNvPr id="1018" name="文本框 26"/>
            <p:cNvSpPr/>
            <p:nvPr/>
          </p:nvSpPr>
          <p:spPr>
            <a:xfrm>
              <a:off x="696276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3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直接连接符 27"/>
            <p:cNvSpPr/>
            <p:nvPr/>
          </p:nvSpPr>
          <p:spPr>
            <a:xfrm>
              <a:off x="704268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28"/>
          <p:cNvGrpSpPr/>
          <p:nvPr/>
        </p:nvGrpSpPr>
        <p:grpSpPr>
          <a:xfrm>
            <a:off x="612720" y="4089240"/>
            <a:ext cx="919080" cy="1191240"/>
            <a:chOff x="612720" y="4089240"/>
            <a:chExt cx="919080" cy="1191240"/>
          </a:xfrm>
        </p:grpSpPr>
        <p:sp>
          <p:nvSpPr>
            <p:cNvPr id="1021" name="文本框 35"/>
            <p:cNvSpPr/>
            <p:nvPr/>
          </p:nvSpPr>
          <p:spPr>
            <a:xfrm>
              <a:off x="612720" y="408924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36"/>
            <p:cNvSpPr/>
            <p:nvPr/>
          </p:nvSpPr>
          <p:spPr>
            <a:xfrm>
              <a:off x="692640" y="4818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40"/>
          <p:cNvGrpSpPr/>
          <p:nvPr/>
        </p:nvGrpSpPr>
        <p:grpSpPr>
          <a:xfrm>
            <a:off x="2735280" y="4098960"/>
            <a:ext cx="919080" cy="1191240"/>
            <a:chOff x="2735280" y="4098960"/>
            <a:chExt cx="919080" cy="1191240"/>
          </a:xfrm>
        </p:grpSpPr>
        <p:sp>
          <p:nvSpPr>
            <p:cNvPr id="1024" name="文本框 41"/>
            <p:cNvSpPr/>
            <p:nvPr/>
          </p:nvSpPr>
          <p:spPr>
            <a:xfrm>
              <a:off x="273528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2"/>
            <p:cNvSpPr/>
            <p:nvPr/>
          </p:nvSpPr>
          <p:spPr>
            <a:xfrm>
              <a:off x="281520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43"/>
          <p:cNvGrpSpPr/>
          <p:nvPr/>
        </p:nvGrpSpPr>
        <p:grpSpPr>
          <a:xfrm>
            <a:off x="4848120" y="4098960"/>
            <a:ext cx="919440" cy="1191240"/>
            <a:chOff x="4848120" y="4098960"/>
            <a:chExt cx="919440" cy="1191240"/>
          </a:xfrm>
        </p:grpSpPr>
        <p:sp>
          <p:nvSpPr>
            <p:cNvPr id="1027" name="文本框 44"/>
            <p:cNvSpPr/>
            <p:nvPr/>
          </p:nvSpPr>
          <p:spPr>
            <a:xfrm>
              <a:off x="4848120" y="409896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45"/>
            <p:cNvSpPr/>
            <p:nvPr/>
          </p:nvSpPr>
          <p:spPr>
            <a:xfrm>
              <a:off x="492804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46"/>
          <p:cNvGrpSpPr/>
          <p:nvPr/>
        </p:nvGrpSpPr>
        <p:grpSpPr>
          <a:xfrm>
            <a:off x="6962760" y="4098960"/>
            <a:ext cx="919080" cy="1191240"/>
            <a:chOff x="6962760" y="4098960"/>
            <a:chExt cx="919080" cy="1191240"/>
          </a:xfrm>
        </p:grpSpPr>
        <p:sp>
          <p:nvSpPr>
            <p:cNvPr id="1030" name="文本框 47"/>
            <p:cNvSpPr/>
            <p:nvPr/>
          </p:nvSpPr>
          <p:spPr>
            <a:xfrm>
              <a:off x="696276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48"/>
            <p:cNvSpPr/>
            <p:nvPr/>
          </p:nvSpPr>
          <p:spPr>
            <a:xfrm>
              <a:off x="704268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50"/>
          <p:cNvSpPr/>
          <p:nvPr/>
        </p:nvSpPr>
        <p:spPr>
          <a:xfrm>
            <a:off x="1690560" y="13366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51"/>
          <p:cNvSpPr/>
          <p:nvPr/>
        </p:nvSpPr>
        <p:spPr>
          <a:xfrm>
            <a:off x="3762360" y="1343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52"/>
          <p:cNvSpPr/>
          <p:nvPr/>
        </p:nvSpPr>
        <p:spPr>
          <a:xfrm>
            <a:off x="5842080" y="134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53"/>
          <p:cNvSpPr/>
          <p:nvPr/>
        </p:nvSpPr>
        <p:spPr>
          <a:xfrm>
            <a:off x="7940520" y="133992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54"/>
          <p:cNvSpPr/>
          <p:nvPr/>
        </p:nvSpPr>
        <p:spPr>
          <a:xfrm>
            <a:off x="1673280" y="34830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55"/>
          <p:cNvSpPr/>
          <p:nvPr/>
        </p:nvSpPr>
        <p:spPr>
          <a:xfrm>
            <a:off x="376092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56"/>
          <p:cNvSpPr/>
          <p:nvPr/>
        </p:nvSpPr>
        <p:spPr>
          <a:xfrm>
            <a:off x="5843520" y="3476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57"/>
          <p:cNvSpPr/>
          <p:nvPr/>
        </p:nvSpPr>
        <p:spPr>
          <a:xfrm>
            <a:off x="793116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组合 20"/>
          <p:cNvGrpSpPr/>
          <p:nvPr/>
        </p:nvGrpSpPr>
        <p:grpSpPr>
          <a:xfrm>
            <a:off x="361800" y="876240"/>
            <a:ext cx="8247960" cy="2188080"/>
            <a:chOff x="361800" y="876240"/>
            <a:chExt cx="8247960" cy="2188080"/>
          </a:xfrm>
        </p:grpSpPr>
        <p:grpSp>
          <p:nvGrpSpPr>
            <p:cNvPr id="1041" name="组合 4"/>
            <p:cNvGrpSpPr/>
            <p:nvPr/>
          </p:nvGrpSpPr>
          <p:grpSpPr>
            <a:xfrm>
              <a:off x="361800" y="876240"/>
              <a:ext cx="3850200" cy="459720"/>
              <a:chOff x="361800" y="876240"/>
              <a:chExt cx="3850200" cy="459720"/>
            </a:xfrm>
          </p:grpSpPr>
          <p:sp>
            <p:nvSpPr>
              <p:cNvPr id="1042" name="文本框 2"/>
              <p:cNvSpPr/>
              <p:nvPr/>
            </p:nvSpPr>
            <p:spPr>
              <a:xfrm>
                <a:off x="361800" y="876240"/>
                <a:ext cx="385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在      里填上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＞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或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椭圆 3"/>
              <p:cNvSpPr/>
              <p:nvPr/>
            </p:nvSpPr>
            <p:spPr>
              <a:xfrm>
                <a:off x="812520" y="885600"/>
                <a:ext cx="432360" cy="432000"/>
              </a:xfrm>
              <a:prstGeom prst="ellipse">
                <a:avLst/>
              </a:prstGeom>
              <a:noFill/>
              <a:ln w="1260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组合 12"/>
            <p:cNvGrpSpPr/>
            <p:nvPr/>
          </p:nvGrpSpPr>
          <p:grpSpPr>
            <a:xfrm>
              <a:off x="607320" y="1696320"/>
              <a:ext cx="8002440" cy="1368000"/>
              <a:chOff x="607320" y="1696320"/>
              <a:chExt cx="8002440" cy="1368000"/>
            </a:xfrm>
          </p:grpSpPr>
          <p:sp>
            <p:nvSpPr>
              <p:cNvPr id="1045" name="文本框 5"/>
              <p:cNvSpPr/>
              <p:nvPr/>
            </p:nvSpPr>
            <p:spPr>
              <a:xfrm>
                <a:off x="60732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+16      3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文本框 6"/>
              <p:cNvSpPr/>
              <p:nvPr/>
            </p:nvSpPr>
            <p:spPr>
              <a:xfrm>
                <a:off x="338904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2+28      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文本框 7"/>
              <p:cNvSpPr/>
              <p:nvPr/>
            </p:nvSpPr>
            <p:spPr>
              <a:xfrm>
                <a:off x="617076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4+18      5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文本框 8"/>
              <p:cNvSpPr/>
              <p:nvPr/>
            </p:nvSpPr>
            <p:spPr>
              <a:xfrm>
                <a:off x="61344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6+15      57+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文本框 9"/>
              <p:cNvSpPr/>
              <p:nvPr/>
            </p:nvSpPr>
            <p:spPr>
              <a:xfrm>
                <a:off x="339516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3+17      73+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文本框 10"/>
              <p:cNvSpPr/>
              <p:nvPr/>
            </p:nvSpPr>
            <p:spPr>
              <a:xfrm>
                <a:off x="617688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+27      56+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椭圆 14"/>
            <p:cNvSpPr/>
            <p:nvPr/>
          </p:nvSpPr>
          <p:spPr>
            <a:xfrm>
              <a:off x="158544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15"/>
            <p:cNvSpPr/>
            <p:nvPr/>
          </p:nvSpPr>
          <p:spPr>
            <a:xfrm>
              <a:off x="437040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16"/>
            <p:cNvSpPr/>
            <p:nvPr/>
          </p:nvSpPr>
          <p:spPr>
            <a:xfrm>
              <a:off x="715212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17"/>
            <p:cNvSpPr/>
            <p:nvPr/>
          </p:nvSpPr>
          <p:spPr>
            <a:xfrm>
              <a:off x="159156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椭圆 18"/>
            <p:cNvSpPr/>
            <p:nvPr/>
          </p:nvSpPr>
          <p:spPr>
            <a:xfrm>
              <a:off x="437652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19"/>
            <p:cNvSpPr/>
            <p:nvPr/>
          </p:nvSpPr>
          <p:spPr>
            <a:xfrm>
              <a:off x="715824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文本框 21"/>
          <p:cNvSpPr/>
          <p:nvPr/>
        </p:nvSpPr>
        <p:spPr>
          <a:xfrm>
            <a:off x="15382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22"/>
          <p:cNvSpPr/>
          <p:nvPr/>
        </p:nvSpPr>
        <p:spPr>
          <a:xfrm>
            <a:off x="43354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23"/>
          <p:cNvSpPr/>
          <p:nvPr/>
        </p:nvSpPr>
        <p:spPr>
          <a:xfrm>
            <a:off x="7112160" y="165096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24"/>
          <p:cNvSpPr/>
          <p:nvPr/>
        </p:nvSpPr>
        <p:spPr>
          <a:xfrm>
            <a:off x="155592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5"/>
          <p:cNvSpPr/>
          <p:nvPr/>
        </p:nvSpPr>
        <p:spPr>
          <a:xfrm>
            <a:off x="4336920" y="2549520"/>
            <a:ext cx="4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26"/>
          <p:cNvSpPr/>
          <p:nvPr/>
        </p:nvSpPr>
        <p:spPr>
          <a:xfrm>
            <a:off x="712800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文本框 2"/>
          <p:cNvSpPr/>
          <p:nvPr/>
        </p:nvSpPr>
        <p:spPr>
          <a:xfrm>
            <a:off x="339840" y="86040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题。（正确的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√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错误的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改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5"/>
          <p:cNvGrpSpPr/>
          <p:nvPr/>
        </p:nvGrpSpPr>
        <p:grpSpPr>
          <a:xfrm>
            <a:off x="1514520" y="1992240"/>
            <a:ext cx="977760" cy="1191240"/>
            <a:chOff x="1514520" y="1992240"/>
            <a:chExt cx="977760" cy="1191240"/>
          </a:xfrm>
        </p:grpSpPr>
        <p:sp>
          <p:nvSpPr>
            <p:cNvPr id="1065" name="文本框 3"/>
            <p:cNvSpPr/>
            <p:nvPr/>
          </p:nvSpPr>
          <p:spPr>
            <a:xfrm>
              <a:off x="1514520" y="1992240"/>
              <a:ext cx="9777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4"/>
            <p:cNvSpPr/>
            <p:nvPr/>
          </p:nvSpPr>
          <p:spPr>
            <a:xfrm>
              <a:off x="1571400" y="2755080"/>
              <a:ext cx="8510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组合 6"/>
          <p:cNvGrpSpPr/>
          <p:nvPr/>
        </p:nvGrpSpPr>
        <p:grpSpPr>
          <a:xfrm>
            <a:off x="4438800" y="1976400"/>
            <a:ext cx="979200" cy="1191240"/>
            <a:chOff x="4438800" y="1976400"/>
            <a:chExt cx="979200" cy="1191240"/>
          </a:xfrm>
        </p:grpSpPr>
        <p:sp>
          <p:nvSpPr>
            <p:cNvPr id="1068" name="文本框 7"/>
            <p:cNvSpPr/>
            <p:nvPr/>
          </p:nvSpPr>
          <p:spPr>
            <a:xfrm>
              <a:off x="4438800" y="1976400"/>
              <a:ext cx="9792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8"/>
            <p:cNvSpPr/>
            <p:nvPr/>
          </p:nvSpPr>
          <p:spPr>
            <a:xfrm>
              <a:off x="4495680" y="2739240"/>
              <a:ext cx="85212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9"/>
          <p:cNvGrpSpPr/>
          <p:nvPr/>
        </p:nvGrpSpPr>
        <p:grpSpPr>
          <a:xfrm>
            <a:off x="6647040" y="1959120"/>
            <a:ext cx="979200" cy="1191240"/>
            <a:chOff x="6647040" y="1959120"/>
            <a:chExt cx="979200" cy="1191240"/>
          </a:xfrm>
        </p:grpSpPr>
        <p:sp>
          <p:nvSpPr>
            <p:cNvPr id="1071" name="文本框 10"/>
            <p:cNvSpPr/>
            <p:nvPr/>
          </p:nvSpPr>
          <p:spPr>
            <a:xfrm>
              <a:off x="6647040" y="1959120"/>
              <a:ext cx="9792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 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12"/>
            <p:cNvSpPr/>
            <p:nvPr/>
          </p:nvSpPr>
          <p:spPr>
            <a:xfrm>
              <a:off x="6703920" y="2721600"/>
              <a:ext cx="85212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组合 14"/>
          <p:cNvGrpSpPr/>
          <p:nvPr/>
        </p:nvGrpSpPr>
        <p:grpSpPr>
          <a:xfrm>
            <a:off x="1496880" y="4384800"/>
            <a:ext cx="979560" cy="1191240"/>
            <a:chOff x="1496880" y="4384800"/>
            <a:chExt cx="979560" cy="1191240"/>
          </a:xfrm>
        </p:grpSpPr>
        <p:sp>
          <p:nvSpPr>
            <p:cNvPr id="1074" name="文本框 15"/>
            <p:cNvSpPr/>
            <p:nvPr/>
          </p:nvSpPr>
          <p:spPr>
            <a:xfrm>
              <a:off x="1496880" y="4384800"/>
              <a:ext cx="9795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2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直接连接符 16"/>
            <p:cNvSpPr/>
            <p:nvPr/>
          </p:nvSpPr>
          <p:spPr>
            <a:xfrm>
              <a:off x="1553760" y="5146560"/>
              <a:ext cx="8524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组合 17"/>
          <p:cNvGrpSpPr/>
          <p:nvPr/>
        </p:nvGrpSpPr>
        <p:grpSpPr>
          <a:xfrm>
            <a:off x="4464000" y="4384800"/>
            <a:ext cx="979560" cy="1191240"/>
            <a:chOff x="4464000" y="4384800"/>
            <a:chExt cx="979560" cy="1191240"/>
          </a:xfrm>
        </p:grpSpPr>
        <p:sp>
          <p:nvSpPr>
            <p:cNvPr id="1077" name="文本框 18"/>
            <p:cNvSpPr/>
            <p:nvPr/>
          </p:nvSpPr>
          <p:spPr>
            <a:xfrm>
              <a:off x="4464000" y="4384800"/>
              <a:ext cx="9795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19"/>
            <p:cNvSpPr/>
            <p:nvPr/>
          </p:nvSpPr>
          <p:spPr>
            <a:xfrm>
              <a:off x="4520880" y="5146560"/>
              <a:ext cx="8524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9" name="Picture 12" descr="小马"/>
          <p:cNvPicPr/>
          <p:nvPr/>
        </p:nvPicPr>
        <p:blipFill>
          <a:blip r:embed="rId1"/>
          <a:stretch/>
        </p:blipFill>
        <p:spPr>
          <a:xfrm>
            <a:off x="3660840" y="1984320"/>
            <a:ext cx="915840" cy="10652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小动物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6320" y="1990800"/>
            <a:ext cx="1116360" cy="12002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8" descr="小羊"/>
          <p:cNvPicPr/>
          <p:nvPr/>
        </p:nvPicPr>
        <p:blipFill>
          <a:blip r:embed="rId3"/>
          <a:stretch/>
        </p:blipFill>
        <p:spPr>
          <a:xfrm>
            <a:off x="523800" y="2073240"/>
            <a:ext cx="1100160" cy="901800"/>
          </a:xfrm>
          <a:prstGeom prst="rect">
            <a:avLst/>
          </a:prstGeom>
          <a:ln w="0">
            <a:noFill/>
          </a:ln>
        </p:spPr>
      </p:pic>
      <p:sp>
        <p:nvSpPr>
          <p:cNvPr id="1082" name="文本框 20"/>
          <p:cNvSpPr/>
          <p:nvPr/>
        </p:nvSpPr>
        <p:spPr>
          <a:xfrm>
            <a:off x="676440" y="338292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）                      （     ）               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21"/>
          <p:cNvSpPr/>
          <p:nvPr/>
        </p:nvSpPr>
        <p:spPr>
          <a:xfrm>
            <a:off x="7016760" y="33638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22"/>
          <p:cNvSpPr/>
          <p:nvPr/>
        </p:nvSpPr>
        <p:spPr>
          <a:xfrm>
            <a:off x="1774800" y="336564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23"/>
          <p:cNvSpPr/>
          <p:nvPr/>
        </p:nvSpPr>
        <p:spPr>
          <a:xfrm>
            <a:off x="4692600" y="335772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下箭头 24"/>
          <p:cNvSpPr/>
          <p:nvPr/>
        </p:nvSpPr>
        <p:spPr>
          <a:xfrm>
            <a:off x="1743120" y="3852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下箭头 25"/>
          <p:cNvSpPr/>
          <p:nvPr/>
        </p:nvSpPr>
        <p:spPr>
          <a:xfrm>
            <a:off x="4684680" y="3852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文本框 2"/>
          <p:cNvSpPr/>
          <p:nvPr/>
        </p:nvSpPr>
        <p:spPr>
          <a:xfrm>
            <a:off x="414360" y="912960"/>
            <a:ext cx="84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乐乐在计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一位数时，把这个一位数加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十位上去了，结果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你知道正确的结果应是多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"/>
          <p:cNvSpPr/>
          <p:nvPr/>
        </p:nvSpPr>
        <p:spPr>
          <a:xfrm>
            <a:off x="1146240" y="1990800"/>
            <a:ext cx="55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-4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8+5=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正确的结果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06Z</dcterms:modified>
  <cp:revision>1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